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6E7-0481-41A7-87C2-AE45EFCA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A6D-1B89-4F7C-A875-2AD21C6F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C89-F209-42F5-8892-9C60B82E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5F8-3C58-4FFB-A310-81A082B2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64B-DF62-4EC6-9C84-CBE144CD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588-FE80-4D9B-864A-B6A5D6C7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11D-EC82-4554-A30A-05597908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DF2-9C52-45F6-B6CC-5465A64B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E3C-962E-4824-ABAF-BEBC6EB0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72E-0484-405E-AB43-646B409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B1B-6568-4A0C-8D89-C55CE0E4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1A1-F195-40CA-B0DB-C4D921B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A6E0-8EC2-4F4C-B540-56AA75992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7721280"/>
            <a:ext cx="5086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 Tynan and Jon B. Christianson, Consumer-Directed Health Plans: Mixed Signals, Complex Market Dynamics, Issue Brief No. 119, Center for Studying Health System Change, Washington, D.C. (March 200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W_small" descr=""/>
          <p:cNvPicPr/>
          <p:nvPr/>
        </p:nvPicPr>
        <p:blipFill>
          <a:blip r:embed="rId1"/>
          <a:stretch/>
        </p:blipFill>
        <p:spPr>
          <a:xfrm>
            <a:off x="307800" y="7954920"/>
            <a:ext cx="911520" cy="80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762120" y="762120"/>
          <a:ext cx="5333400" cy="699840"/>
        </p:xfrm>
        <a:graphic>
          <a:graphicData uri="http://schemas.openxmlformats.org/drawingml/2006/table">
            <a:tbl>
              <a:tblPr/>
              <a:tblGrid>
                <a:gridCol w="53334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r-Sponsored Health Plan Enrollment by Plan Type,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976_Fig1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5715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5:00:09Z</dcterms:created>
  <dc:creator>Tad Lee</dc:creator>
  <dc:description/>
  <dc:language>en-US</dc:language>
  <cp:lastModifiedBy>Tad Lee</cp:lastModifiedBy>
  <dcterms:modified xsi:type="dcterms:W3CDTF">2008-03-26T18:53:53Z</dcterms:modified>
  <cp:revision>14</cp:revision>
  <dc:subject/>
  <dc:title>Davis, Matthew M., Judith H. Hibbard and Arnold Milstein, Consumer Tolerance for Inaccuracy in Physician Performance Ratings: One Size Fits None, Issue Brief No. 110, Center for Studying Health System Change, Washington, D.C. (March 2007).</dc:title>
</cp:coreProperties>
</file>