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709-6620-4079-9C3A-C8E51BE0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23B-EEC9-4FE6-A73B-172A6037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34A-D168-403E-B44E-1F192933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E024-DCB1-4774-B519-58FF18CD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26C-C7B5-48BA-B5FB-D6A24578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A12-1BAC-4300-825A-56856780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C62-0039-4A9F-BD4D-C0AD0405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01E-F609-47D3-9F01-9E584485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C07-BE22-4A5A-804E-830F9039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CAF-1ED3-45EB-AC55-636A40E5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9E7-F22F-45C3-9E49-24EB6DAC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E63-E710-4CE9-B17F-C6D57F8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5A1-D444-43D6-8221-24EE42AE4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7721280"/>
            <a:ext cx="5086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nan, Ann, Robert A. Berenson and Jon B. Christianson, Issue Brief No. 118, Center for Studying Health System Change, Washington, D.C. (February 200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W_small" descr=""/>
          <p:cNvPicPr/>
          <p:nvPr/>
        </p:nvPicPr>
        <p:blipFill>
          <a:blip r:embed="rId1"/>
          <a:stretch/>
        </p:blipFill>
        <p:spPr>
          <a:xfrm>
            <a:off x="307800" y="7954920"/>
            <a:ext cx="911520" cy="80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85800" y="533520"/>
          <a:ext cx="5334120" cy="76176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 Scans in the United States for All Payers, per 100 Pop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968_1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57150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5:00:09Z</dcterms:created>
  <dc:creator>Tad Lee</dc:creator>
  <dc:description/>
  <dc:language>en-US</dc:language>
  <cp:lastModifiedBy>Tad Lee</cp:lastModifiedBy>
  <dcterms:modified xsi:type="dcterms:W3CDTF">2008-02-20T19:40:40Z</dcterms:modified>
  <cp:revision>12</cp:revision>
  <dc:subject/>
  <dc:title>Davis, Matthew M., Judith H. Hibbard and Arnold Milstein, Consumer Tolerance for Inaccuracy in Physician Performance Ratings: One Size Fits None, Issue Brief No. 110, Center for Studying Health System Change, Washington, D.C. (March 2007).</dc:title>
</cp:coreProperties>
</file>