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0554-06C2-4A8A-B551-28B09A4A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75C-7412-4D52-B062-72473A92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133-65C0-45CC-AF4E-CB077B80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088-55A1-445E-A1A9-C86DCE6B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A21-91B9-4425-8496-F6BCBFEB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DDC-1D27-4B8C-9B8D-C3B7B50B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FC7-8E5A-4BF0-93BA-C1F8256B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293-D696-416A-866F-9D7DA207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23B-0A38-4765-A414-D3EDDB4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43B-432B-4D21-AD46-AFBE2E8C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848-906D-443F-AEA6-F20F1C38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961-A339-4705-9214-2B4CA75B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DFE9-D122-4D05-8742-2437BA949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7721280"/>
            <a:ext cx="5086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ley, Robert, Aaron Katz and Laurie Felland, Issue Brief No. 117, Center for Studying Health System Change, Washington, D.C. (January 200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W_small" descr=""/>
          <p:cNvPicPr/>
          <p:nvPr/>
        </p:nvPicPr>
        <p:blipFill>
          <a:blip r:embed="rId1"/>
          <a:stretch/>
        </p:blipFill>
        <p:spPr>
          <a:xfrm>
            <a:off x="307800" y="7954920"/>
            <a:ext cx="911520" cy="80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85800" y="533520"/>
          <a:ext cx="5334120" cy="76176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 Change in Quarterly Tax Revenue, FY 2000-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964_1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57150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5:00:09Z</dcterms:created>
  <dc:creator>Tad Lee</dc:creator>
  <dc:description/>
  <dc:language>en-US</dc:language>
  <cp:lastModifiedBy>Tad Lee</cp:lastModifiedBy>
  <dcterms:modified xsi:type="dcterms:W3CDTF">2008-01-29T17:54:32Z</dcterms:modified>
  <cp:revision>11</cp:revision>
  <dc:subject/>
  <dc:title>Davis, Matthew M., Judith H. Hibbard and Arnold Milstein, Consumer Tolerance for Inaccuracy in Physician Performance Ratings: One Size Fits None, Issue Brief No. 110, Center for Studying Health System Change, Washington, D.C. (March 2007).</dc:title>
</cp:coreProperties>
</file>