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402E-0D1F-412B-9089-15C9DBC3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3E7-18D5-4376-97A5-2EBF7997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69E-F51A-4F02-8873-B0A23A01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03F-790B-4169-B9C8-F4B1DF42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001-4D7C-4EED-93E2-3E408C43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7B4-3542-4EF1-BD5F-04EB95F6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C2A-CF17-407E-BD67-229276FC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475-F5C9-42B3-8EA3-B7A8A73E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85C-2B3E-46F3-8D3A-0A7097BA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7DD-86A6-4A28-86C6-5D37E918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C89-95DB-4AD3-BFD8-96CD6C1C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984-6A9D-462F-BAA3-1BF1FBAA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F4B3-8B80-4870-874B-F8D373F9F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7721280"/>
            <a:ext cx="5086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E. Hurley, Laurie E. Felland and Johanna Lauer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mmunity Health Centers Tackle Rising Demands and Expect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ssue Brief No. 116, Center for Studying Health System Change, Washington, D.C. (December 200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W_small" descr=""/>
          <p:cNvPicPr/>
          <p:nvPr/>
        </p:nvPicPr>
        <p:blipFill>
          <a:blip r:embed="rId1"/>
          <a:stretch/>
        </p:blipFill>
        <p:spPr>
          <a:xfrm>
            <a:off x="307800" y="7954920"/>
            <a:ext cx="911520" cy="80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762120" y="762120"/>
          <a:ext cx="5105160" cy="3952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Community Health Center (CHC) 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IB%20116%20Figure%201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5219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5:00:09Z</dcterms:created>
  <dc:creator>Tad Lee</dc:creator>
  <dc:description/>
  <dc:language>en-US</dc:language>
  <cp:lastModifiedBy>Tad Lee</cp:lastModifiedBy>
  <dcterms:modified xsi:type="dcterms:W3CDTF">2008-02-25T20:44:35Z</dcterms:modified>
  <cp:revision>13</cp:revision>
  <dc:subject/>
  <dc:title>Davis, Matthew M., Judith H. Hibbard and Arnold Milstein, Consumer Tolerance for Inaccuracy in Physician Performance Ratings: One Size Fits None, Issue Brief No. 110, Center for Studying Health System Change, Washington, D.C. (March 2007).</dc:title>
</cp:coreProperties>
</file>