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A68-5360-492D-BE36-FDFA4F16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499-6AF7-46D3-87C7-7516396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030-77E3-4903-BD73-A6F51C33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490-5128-4754-9AD7-6048B1A6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B3E-E2C4-4E56-BD51-9C40ED72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610-6C53-4DB2-A820-BB4C01CB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2F3-4786-4615-B0C9-33D0C24A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ED2-0E5A-4DF6-A3B9-430C34ED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CAC-CBAF-45E1-9AC2-0F5E563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A63-9857-4087-86C3-809CEBED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52C-A23B-4522-878F-A7A60A35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A6B-F0B8-4640-A5BB-DA19B410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E1CC-140F-4DEA-9403-2C75C0C51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7721280"/>
            <a:ext cx="5086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ie Felland, Debra Draper and Alison Liebhaber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ssachusetts Health Reform: Employers, Lower-Wage Workers and Universal Cover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ssue Brief No. 113, Center for Studying Health System Change, Washington, D.C. (July 200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760" y="304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wealth Choice Insuranc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W_small" descr=""/>
          <p:cNvPicPr/>
          <p:nvPr/>
        </p:nvPicPr>
        <p:blipFill>
          <a:blip r:embed="rId1"/>
          <a:stretch/>
        </p:blipFill>
        <p:spPr>
          <a:xfrm>
            <a:off x="307800" y="7954920"/>
            <a:ext cx="911520" cy="808200"/>
          </a:xfrm>
          <a:prstGeom prst="rect">
            <a:avLst/>
          </a:prstGeom>
          <a:ln w="0">
            <a:noFill/>
          </a:ln>
        </p:spPr>
      </p:pic>
      <p:pic>
        <p:nvPicPr>
          <p:cNvPr id="44" name="IB%20113%20Table%202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601956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00:09Z</dcterms:created>
  <dc:creator>Tad Lee</dc:creator>
  <dc:description/>
  <dc:language>en-US</dc:language>
  <cp:lastModifiedBy>Tad Lee</cp:lastModifiedBy>
  <dcterms:modified xsi:type="dcterms:W3CDTF">2007-07-27T15:02:24Z</dcterms:modified>
  <cp:revision>5</cp:revision>
  <dc:subject/>
  <dc:title>Davis, Matthew M., Judith H. Hibbard and Arnold Milstein, Consumer Tolerance for Inaccuracy in Physician Performance Ratings: One Size Fits None, Issue Brief No. 110, Center for Studying Health System Change, Washington, D.C. (March 2007).</dc:title>
</cp:coreProperties>
</file>